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B7DB-D670-47CF-8BCE-B5508942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145E-AE30-49BE-B396-5D58E167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DF7C-0245-4831-A8C4-B07AABF3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F61E-0778-41A0-B00B-E82D41E5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6E18-1941-4564-876C-4DD8B6AE7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763B-D8CA-457B-845F-E751B824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D05B-005E-41B3-ADE8-C21D93C7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87ED-2FC5-467C-9B57-9966E1DF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3FEF-333F-4DC7-9057-FF063668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9B65-FA11-43E0-BB39-003DBEDE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1E44-EBC7-46E6-80D6-1A328C73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D3F0-B0BA-43D2-898E-36CFA31F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DEAE-627E-405A-8BEE-7D6CE5E0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C5B4-4FB5-49E8-B59A-8005F02C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1C34-7035-4434-B0DD-909E383B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3B50-DCFA-4EA6-8F93-144CD935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A738-2428-4801-AA6B-890D4225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8461-870C-4556-863A-7D5358A7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79D1-B190-477C-A859-09F53AD0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D7C5-71BC-4D2A-BD21-F7682FEC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035E-0500-49E9-9B32-3D12E935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7830-26A1-4422-897A-79F48111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C2F3-800E-4712-9EBD-677CED70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21F1-A854-4576-96DA-4E26B78F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CC1E-4723-4B15-A002-E1CEC69DB32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5824-A596-4DCC-9DEB-2759F1AC6A1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EL VERBO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MÁTICA TEMA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DEFINICIÓN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VERBO ES UNA CLASE DE PALABRA QUE EXPRESA DEL SUJE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A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 PROC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 EST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 NÚCLEO DE UN SV (PREDICAD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EDE LLEVAR COMPLEME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109,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ESTRUCTURA DEL VERBO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EXEMA O RAÍZ VER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 SIGNIFICAD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EMA (A,E,I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 CONJUGACIÓ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ORFEMA TEMPORAL-MOD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TIEMPO Y MOD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SINENCIAS PERSON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 PERSONA Y NÚMERO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ACCIDENTES GRAMATICALES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SONA : 1ª, 2ª Y 3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ÚMERO: SINGULAR Y PLU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EMPO: PRETÉRITO, PRESENTE, FUTURO Y CONDI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O: INDICATIVO, SUBJUNTIVO E IMPERA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PECTO: IMPERFECTO Y PERF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Z: ACTIVA Y PAS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FORMAS NO PERSONALES 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FINITIVO, COMO UN SUSTAN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MPLE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AMAR, CORRER, VIV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UESTO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HABER AMADO, CORR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GERUNDIO, COMO UN ADVERB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MPLE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AMANDO, CORRIENDO, VIVI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UESTO: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HABIENDO AM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RTICIPIO, COMO UN ADJE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AM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LA CONJUGACIÓN VERBAL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OS DE CONJUGACIÓ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AR= 1ª CONJU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R=2ª CONJU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VIR= 3ª CONJU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OS REGULARES: NO VARÍA LA RAÍZ NI LOS MORFEMAS DE SU MODE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RREGULARES: VARÍA LA RAÍZ, MORFEMAS O AMB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NÚCLEO VERBAL CON 2 VERBOS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OS EN FORMA COMPUEST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BER + PARTICI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O EN VOZ PASIV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+ PARTICI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UCIÓN VERB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BO+SN O S PRE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ÍFRASIS VER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A PERSONAL+(NEXO)+FORMA NOMI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PERÍFRASIS VERBALES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ALES: Expresan la actitud del habl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 OBLIGACIÓN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ner que, haber de/que + infinitivo, deb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 PROBABILIDAD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ber de, poder+ infinitivo, venir a +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PECTUALES: Informan sobre el desarrollo de la ac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GRES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r a, estar a punto de+ 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CO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char a , romper a+ 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UR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ar, andar, llevar+gerund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SULT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jar de+ 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ITERATIV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olver a +infin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45:04Z</dcterms:created>
  <dc:creator>AUDIOLEASK</dc:creator>
  <dc:description/>
  <dc:language>en-US</dc:language>
  <cp:lastModifiedBy>AUDIOLEASK</cp:lastModifiedBy>
  <dcterms:modified xsi:type="dcterms:W3CDTF">2014-02-11T20:41:46Z</dcterms:modified>
  <cp:revision>4</cp:revision>
  <dc:subject/>
  <dc:title>EL VERBO</dc:title>
</cp:coreProperties>
</file>